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6299F-F357-4EAB-85BD-780C5906B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A6368-C573-4F2C-84BB-A7BE87F3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A1DCC6-94B7-4A98-905A-E6A1CFDD5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364DAC-36F1-463F-A0D1-56B96F1C14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740DF-695A-4DF2-BE40-B3733D71B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FFAE2-602C-4D67-91DC-2DC9AA9C78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9ED182-5848-4732-BEF5-6B100AA90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12AE65-CA48-4305-8CE7-4ACB046D86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DEBEED-1BCB-4F60-956F-75FE9B0DE0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73C949-1A05-4875-9F3F-719C2A9EC7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8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75DDCD-1FC5-444A-8CCD-70F73A5F2A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407D36-4F58-470B-BF56-D4E0C24135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A5BE4-2879-4CD8-AC7D-80D17BD89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F38EA2-1239-4ECE-BCFE-E1A47A3FE6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F2D79D-E68F-45E2-BD33-54B4C7F74A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F6322B-25CE-4C13-90A7-A39910980F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74CAFE-B0B3-4F86-BE94-44E70D8710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12F211-1976-4D28-94EF-0BA23B2901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5BE940-4FF1-4280-B4F0-7A1FD4FD58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FE1A1E-28BE-4CF1-8AB0-0B0C11D4BE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03B6F9-6F39-4043-9AF5-9AE43A8989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EDFB06-E2E0-4381-9B80-30BBB93001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80AF57-57C5-4DA6-9943-847DB4436C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C0F3A-23A5-46DA-9540-D10A0744E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3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92B562-30AF-4993-A004-0C7205D470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869DCD-4D2C-4109-B158-BE67C92FB0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3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05E983-8B47-426B-91DE-3FE643455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8DFD03-D042-42B6-95CB-FD55BFF649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B723A0-B4F3-431D-B39D-8392A188ED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49863B-EFF5-4F67-AEBF-D46CEF8DED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2D41CE-FE9B-4CA7-BECA-A5BCD56B3A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AE1669-7426-4129-A636-E3E4EC6927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5EA741-C143-460A-B299-761849C2CF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FE30EB-69DB-4C86-AE0F-3D4C3BE1C8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8B3B6-1096-4B94-8363-309057FF5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F2797E-448A-4B6C-BEE3-C41ED210B4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EF402E-BB76-424C-AD03-5E195E41B6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9FA8E6-A23E-472E-9781-2A887AF797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DE8162-4F9F-423D-AA2E-1D42A420A6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454CDF-5A7A-47E1-ACCD-A44AD781C2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4F2DE4-E1EC-411B-A727-441BCE0D3C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8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3285E8-5F88-4AF3-A18F-75307D1218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D9E5B7-B5D6-4B95-97AA-86771C1E88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678828-63D9-47E1-8D42-E0E48EA7A1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B92FD1-68ED-4F81-BC18-2287FA60ED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8AF80-AFCD-4557-A676-024BF115D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80AD68-9614-4326-8704-34076DAFB0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C333B4-7955-43F1-960D-AA47F455F3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578EED-0989-4CC7-82E4-3BAAF86C39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6759A1-27B6-43DE-A6AA-C852FB5054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1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EBAC6E-AEF8-46A0-87D9-6605E66556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B6B98F-3F63-41E9-BE09-8FF131ED51D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C7776A-3CC5-4467-846A-B35B84F389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7A13C4-D880-4668-84F1-363087B7E8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2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80DF45-25C6-4D81-8879-E8516D40A6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20C7A0-84E7-4679-85FA-79F4A04323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6BDBF-C0A0-4362-BBB7-F345F38EA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7F6F4B-9C5B-4CD9-A348-4432C518E1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E992A1-41F2-4F3F-9190-5D09816F47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311DFE-8A52-400A-A03A-EBDAF3F2C5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910AD6-AFD2-4018-BF2D-FEFC0BD461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6B6836-199D-4E6F-9DB3-4DCD66CF8A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37E019-691E-48C1-911D-672F1E89A4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5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B65157-7E97-48FC-8131-7C0B130008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2B7FD-B6DF-4DDB-8D76-E71FA0909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2B661-D924-434D-A219-C84E1111D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0CF7B-8A29-430D-B1AE-F39556ACA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F0ED7-2DA8-48D9-B701-A59CE4A67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9FB0-CC8B-412F-8B70-DE29E999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119C7-4B7B-4FA8-9828-4D3377481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86386-16A8-4010-A4FA-CFCFECC37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712C3-3804-49C3-983E-5F1B66F3F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C39C9-C327-4667-B6ED-18C4B928C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1586B-5642-4ED3-949B-E7B8EBA92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0AFF6E-8F7E-44F7-8E05-B47445C7D4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586E7-8F1F-4014-B2D7-71EA5F9E3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521AD-BCDE-4927-BB04-446733656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85DBF-28F7-4B23-81C0-9FC3C7BFB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023D2-F3F8-4A76-B162-93F6CA581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54F4-847A-410F-B1E2-6875BF41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6EF9C-19A1-4D31-9509-36A09571C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77D53-8321-48F2-B517-7B33A8FB4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CAE1C-6091-421C-A70F-BD421ADB4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05A47-F57D-46F1-B5C5-94820DBD3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4B860-DC11-4A0E-84B8-30E377A59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E3E3AF-F423-4439-90DD-5D75C99DB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2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D9490A-4FC7-4504-A11C-2B8130D83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1D615F-5BCE-4A82-B701-AC4DAB75D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42322-7ED7-4AB3-8688-059980B25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A4557-5980-497C-B37A-EF8585A9C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10087-1DA8-49BF-8910-7B74C466B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3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81BE2-CF98-429D-85A5-2A8AFEC87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3DFC55-77C4-42B3-9A37-49944CB03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ECE631-C25F-4E36-8D8C-39CABCCF3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2E06E-3D4F-4851-8838-793D3B454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300CD-C65F-42E2-80F8-437E1CA4B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E3113-5B6A-4FEF-88F5-45EC5C0AF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C5478-4037-4D9A-8D4C-1B842D276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00F0A4-558E-45A6-8B7B-C40CC9AAB9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6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E39AE-9CFA-4ACF-B45D-ACE99700EE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B0FA08-6461-44DD-AD0F-7E96BC3C9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53AEB-644C-4946-813C-F9D06904B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7"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050F4-349A-47A2-8473-EE0F053D9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9"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A30DA6-6020-4174-9769-D8C39D49D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89379-022E-43A8-A27F-191ECD174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89AC2B-F72F-4828-A5D4-BF585F2C5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1AF27-075C-455B-A424-BE5467EEB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491DC-A4F7-4E4B-B7F2-B473099DA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2"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CF341-2C15-421D-ACA3-F44E53B3D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4"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6"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91330-F988-4BDC-9B56-17EA0DBDC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8"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9"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87AC1-C4E8-4D2F-A0B1-E61FB0108B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4"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14805C-DF13-406E-A612-D592582D58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CB02-3ABB-47D2-9ED8-04AE161C3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6"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7"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8"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9"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0"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1"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DA73D7-AECD-49B8-8C85-26EAD5E1BF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565CF5-4A6A-471C-9C92-6E9764FE3A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AFEC4-4F55-4ABA-B82D-57B540E46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594851-E54B-4CD1-8205-7732C29AC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413ABA-F2CB-483B-9B90-F388E56D6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3361C5-F15B-4651-AE34-FDB8D57ED6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03C7E0-8B95-4BB3-8F3A-5891AD4C4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90243-8199-4646-8CD5-0AC095E57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E9669-1329-4D4A-98E2-96C3C1BE4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FF8D3-60D0-42D7-A386-647C8AD7F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2196-0115-42C8-96E2-6C3B38C2D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CBDEA-F84D-4293-A73E-92D775F24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E94DAD-C514-4723-AEFF-06E61C7DBB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6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EDD8DB-81E1-49D4-A3A2-0DAACFBC28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96EE93-7999-4B79-BE91-35586AAE76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69"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7B8298-EF75-49DA-9162-0A8A00C2FB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1"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541FD-009D-4EBB-A3AD-5A39464F2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3"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FFBA3-989B-45F7-8D1E-7973A988D0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56ED3B-2CD2-4D49-95F3-2B1956DCD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BFB76D-203B-4A49-9D42-382215A39B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44475-F7B8-4139-A607-0BFA31B40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CC81-A261-4AAF-AE59-B22337991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4"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4288A-3151-4BD1-A0F3-6698A3DB1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8"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E2C46-E741-4564-BC82-DDFA612E9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0"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1"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0B8FE3-6A00-4DD3-AAF9-79CE71CE8F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6"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E8489-7162-4D53-B9F3-C8DCEC11D6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8"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9"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0"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1"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2"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3"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1E0F34-4BCE-47EF-9C0F-E533DB132E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653E98-8F28-490C-8502-9AE2E293B7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2"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D1A90E-8B2D-48D8-9B3C-2652D01616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4"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7F1964-3AF8-4BDA-A532-239D4E6F0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6"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3D8B1E-87A0-4F35-ACC5-DF8760030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317C8-D0AF-4064-B6FD-A8D9DB7373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62C58-86F0-4900-B251-E495E4055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DADCA-445E-472E-8239-EB8986961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37BF7-035D-47D8-AAB4-2F8CC5D1F8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7"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7F2D6-E8E8-4A3E-A4ED-66803CF92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9"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1"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07D09-8467-44A1-959E-40E20E7C5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3"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4"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61805-2C01-41B2-B635-3565A1DF3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9"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7DE8F1-E4E8-45DA-B6B4-B2D6A00F47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41"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2"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3"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4"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5"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6"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4867A1-EFF8-49B4-BDB1-1EADF4EBD8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8EF2D5-D2E0-4528-87E7-366D9EBAB8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D55517-7494-457D-B46E-8C87F03DD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D992D1-C18C-4787-8BE2-6904DF673F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 name="PlaceHolder 3"/>
          <p:cNvSpPr>
            <a:spLocks noGrp="1"/>
          </p:cNvSpPr>
          <p:nvPr>
            <p:ph type="dt" idx="1"/>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E3544-522A-4200-B3E6-4F19D06F3461}"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285EB-57E1-4B16-A4FE-7292D9E0181A}"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9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92" name="PlaceHolder 3"/>
          <p:cNvSpPr>
            <a:spLocks noGrp="1"/>
          </p:cNvSpPr>
          <p:nvPr>
            <p:ph type="dt" idx="28"/>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CD22A-B3E2-4D7D-9393-988E432B6BF5}"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393" name="PlaceHolder 4"/>
          <p:cNvSpPr>
            <a:spLocks noGrp="1"/>
          </p:cNvSpPr>
          <p:nvPr>
            <p:ph type="ftr" idx="29"/>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4" name="PlaceHolder 5"/>
          <p:cNvSpPr>
            <a:spLocks noGrp="1"/>
          </p:cNvSpPr>
          <p:nvPr>
            <p:ph type="sldNum" idx="30"/>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734AE-B04E-4CA9-8750-5D487360D9B1}"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34" name="PlaceHolder 3"/>
          <p:cNvSpPr>
            <a:spLocks noGrp="1"/>
          </p:cNvSpPr>
          <p:nvPr>
            <p:ph type="dt" idx="31"/>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25FBF-B964-4795-B3A8-F789204D54CE}"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435" name="PlaceHolder 4"/>
          <p:cNvSpPr>
            <a:spLocks noGrp="1"/>
          </p:cNvSpPr>
          <p:nvPr>
            <p:ph type="ftr" idx="3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5"/>
          <p:cNvSpPr>
            <a:spLocks noGrp="1"/>
          </p:cNvSpPr>
          <p:nvPr>
            <p:ph type="sldNum" idx="33"/>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3618A-592D-4350-97BE-4E2BEB118ADB}"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7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77" name="PlaceHolder 3"/>
          <p:cNvSpPr>
            <a:spLocks noGrp="1"/>
          </p:cNvSpPr>
          <p:nvPr>
            <p:ph type="dt" idx="34"/>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F53C7-43C7-4583-B6F0-9EA4A454CC92}"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478" name="PlaceHolder 4"/>
          <p:cNvSpPr>
            <a:spLocks noGrp="1"/>
          </p:cNvSpPr>
          <p:nvPr>
            <p:ph type="ftr" idx="3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9" name="PlaceHolder 5"/>
          <p:cNvSpPr>
            <a:spLocks noGrp="1"/>
          </p:cNvSpPr>
          <p:nvPr>
            <p:ph type="sldNum" idx="36"/>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30D6A-ABC3-49D0-B0A5-1FEBA388D3DD}"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51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520" name="PlaceHolder 3"/>
          <p:cNvSpPr>
            <a:spLocks noGrp="1"/>
          </p:cNvSpPr>
          <p:nvPr>
            <p:ph type="dt" idx="37"/>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9CCB8-3666-47EF-9800-A7E26932F029}"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521" name="PlaceHolder 4"/>
          <p:cNvSpPr>
            <a:spLocks noGrp="1"/>
          </p:cNvSpPr>
          <p:nvPr>
            <p:ph type="ftr" idx="3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2" name="PlaceHolder 5"/>
          <p:cNvSpPr>
            <a:spLocks noGrp="1"/>
          </p:cNvSpPr>
          <p:nvPr>
            <p:ph type="sldNum" idx="39"/>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0DCEE-FD2F-4BAF-9D7C-37807DDD887F}"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Rectangle 6" descr=""/>
          <p:cNvPicPr/>
          <p:nvPr/>
        </p:nvPicPr>
        <p:blipFill>
          <a:blip r:embed="rId3"/>
          <a:stretch/>
        </p:blipFill>
        <p:spPr>
          <a:xfrm>
            <a:off x="603360" y="1427040"/>
            <a:ext cx="7937280" cy="6546960"/>
          </a:xfrm>
          <a:prstGeom prst="rect">
            <a:avLst/>
          </a:prstGeom>
          <a:ln w="0">
            <a:noFill/>
          </a:ln>
        </p:spPr>
      </p:pic>
      <p:sp>
        <p:nvSpPr>
          <p:cNvPr id="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4" name="PlaceHolder 3"/>
          <p:cNvSpPr>
            <a:spLocks noGrp="1"/>
          </p:cNvSpPr>
          <p:nvPr>
            <p:ph type="dt" idx="4"/>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15E1D-0979-4327-8D72-7A9E414A260A}"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5"/>
          <p:cNvSpPr>
            <a:spLocks noGrp="1"/>
          </p:cNvSpPr>
          <p:nvPr>
            <p:ph type="sldNum" idx="6"/>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5B810-70F2-4945-B9E8-BB607F46C4DA}"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8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87" name="PlaceHolder 3"/>
          <p:cNvSpPr>
            <a:spLocks noGrp="1"/>
          </p:cNvSpPr>
          <p:nvPr>
            <p:ph type="dt" idx="7"/>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825EF-DD8A-4AA6-A689-D1C96DC2F49E}"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 name="PlaceHolder 5"/>
          <p:cNvSpPr>
            <a:spLocks noGrp="1"/>
          </p:cNvSpPr>
          <p:nvPr>
            <p:ph type="sldNum" idx="9"/>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D4516-CE6B-45DF-AE9B-B627437027C8}"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2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30" name="PlaceHolder 3"/>
          <p:cNvSpPr>
            <a:spLocks noGrp="1"/>
          </p:cNvSpPr>
          <p:nvPr>
            <p:ph type="dt" idx="10"/>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98471-5AA9-4A1C-91B1-A4D5E8536E5B}"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131" name="PlaceHolder 4"/>
          <p:cNvSpPr>
            <a:spLocks noGrp="1"/>
          </p:cNvSpPr>
          <p:nvPr>
            <p:ph type="ftr" idx="11"/>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2" name="PlaceHolder 5"/>
          <p:cNvSpPr>
            <a:spLocks noGrp="1"/>
          </p:cNvSpPr>
          <p:nvPr>
            <p:ph type="sldNum" idx="12"/>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11D03-465F-45BB-8AC0-A02CD862B2A2}"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72"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73" name="PlaceHolder 3"/>
          <p:cNvSpPr>
            <a:spLocks noGrp="1"/>
          </p:cNvSpPr>
          <p:nvPr>
            <p:ph type="dt" idx="13"/>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C4206-229C-43F3-9FC4-D24482B72CC8}"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174" name="PlaceHolder 4"/>
          <p:cNvSpPr>
            <a:spLocks noGrp="1"/>
          </p:cNvSpPr>
          <p:nvPr>
            <p:ph type="ftr" idx="14"/>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PlaceHolder 5"/>
          <p:cNvSpPr>
            <a:spLocks noGrp="1"/>
          </p:cNvSpPr>
          <p:nvPr>
            <p:ph type="sldNum" idx="15"/>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F0DF9-0996-4DB1-BCCC-58FA545E8867}"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Freeform 8"/>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Freeform 9"/>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Freeform 10"/>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Freeform 11"/>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Freeform 12"/>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Freeform 13"/>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2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22" name="PlaceHolder 3"/>
          <p:cNvSpPr>
            <a:spLocks noGrp="1"/>
          </p:cNvSpPr>
          <p:nvPr>
            <p:ph type="dt" idx="16"/>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B19CD-C10D-4CDC-AE43-D398C880994C}"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223" name="PlaceHolder 4"/>
          <p:cNvSpPr>
            <a:spLocks noGrp="1"/>
          </p:cNvSpPr>
          <p:nvPr>
            <p:ph type="ftr" idx="17"/>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4" name="PlaceHolder 5"/>
          <p:cNvSpPr>
            <a:spLocks noGrp="1"/>
          </p:cNvSpPr>
          <p:nvPr>
            <p:ph type="sldNum" idx="18"/>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CE8CE-EFA7-4DEE-BB53-32709B8740F5}"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64"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65" name="PlaceHolder 3"/>
          <p:cNvSpPr>
            <a:spLocks noGrp="1"/>
          </p:cNvSpPr>
          <p:nvPr>
            <p:ph type="dt" idx="19"/>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8C624-C3C7-48FA-983D-4B04D10B9518}"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266" name="PlaceHolder 4"/>
          <p:cNvSpPr>
            <a:spLocks noGrp="1"/>
          </p:cNvSpPr>
          <p:nvPr>
            <p:ph type="ftr" idx="20"/>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PlaceHolder 5"/>
          <p:cNvSpPr>
            <a:spLocks noGrp="1"/>
          </p:cNvSpPr>
          <p:nvPr>
            <p:ph type="sldNum" idx="21"/>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D6675-05A5-40F6-9CBB-03D08E5486F4}"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5"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07"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08" name="PlaceHolder 3"/>
          <p:cNvSpPr>
            <a:spLocks noGrp="1"/>
          </p:cNvSpPr>
          <p:nvPr>
            <p:ph type="dt" idx="22"/>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0DD50-EA11-41E0-9E93-A56721377C38}"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309" name="PlaceHolder 4"/>
          <p:cNvSpPr>
            <a:spLocks noGrp="1"/>
          </p:cNvSpPr>
          <p:nvPr>
            <p:ph type="ftr" idx="23"/>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0" name="PlaceHolder 5"/>
          <p:cNvSpPr>
            <a:spLocks noGrp="1"/>
          </p:cNvSpPr>
          <p:nvPr>
            <p:ph type="sldNum" idx="24"/>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65438-95B3-453E-B0BB-1170AEEEDAAD}"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4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50" name="PlaceHolder 3"/>
          <p:cNvSpPr>
            <a:spLocks noGrp="1"/>
          </p:cNvSpPr>
          <p:nvPr>
            <p:ph type="dt" idx="25"/>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0F225-E44A-4C48-AE08-7C2625174300}" type="datetime">
              <a:rPr b="0" lang="en-US" sz="1100" spc="-1" strike="noStrike">
                <a:solidFill>
                  <a:srgbClr val="bfbfbf"/>
                </a:solidFill>
                <a:latin typeface="Corbel"/>
              </a:rPr>
              <a:t>07/31/26</a:t>
            </a:fld>
            <a:endParaRPr b="0" lang="en-US" sz="1100" spc="-1" strike="noStrike">
              <a:solidFill>
                <a:srgbClr val="000000"/>
              </a:solidFill>
              <a:latin typeface="Times New Roman"/>
            </a:endParaRPr>
          </a:p>
        </p:txBody>
      </p:sp>
      <p:sp>
        <p:nvSpPr>
          <p:cNvPr id="351" name="PlaceHolder 4"/>
          <p:cNvSpPr>
            <a:spLocks noGrp="1"/>
          </p:cNvSpPr>
          <p:nvPr>
            <p:ph type="ftr" idx="26"/>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52" name="PlaceHolder 5"/>
          <p:cNvSpPr>
            <a:spLocks noGrp="1"/>
          </p:cNvSpPr>
          <p:nvPr>
            <p:ph type="sldNum" idx="27"/>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3EF82-8E6C-4DCC-A4E7-6F58CDD073A2}"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9" name="Title 1" descr=""/>
          <p:cNvPicPr/>
          <p:nvPr/>
        </p:nvPicPr>
        <p:blipFill>
          <a:blip r:embed="rId2"/>
          <a:stretch/>
        </p:blipFill>
        <p:spPr>
          <a:xfrm>
            <a:off x="652320" y="1530360"/>
            <a:ext cx="7839360" cy="1646280"/>
          </a:xfrm>
          <a:prstGeom prst="rect">
            <a:avLst/>
          </a:prstGeom>
          <a:ln w="0">
            <a:noFill/>
          </a:ln>
        </p:spPr>
      </p:pic>
      <p:pic>
        <p:nvPicPr>
          <p:cNvPr id="560" name="Subtitle 2" descr=""/>
          <p:cNvPicPr/>
          <p:nvPr/>
        </p:nvPicPr>
        <p:blipFill>
          <a:blip r:embed="rId3"/>
          <a:stretch/>
        </p:blipFill>
        <p:spPr>
          <a:xfrm>
            <a:off x="652320" y="3213000"/>
            <a:ext cx="7839360" cy="87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Location and physical features </a:t>
            </a:r>
            <a:endParaRPr b="0" lang="en-US" sz="4800" spc="-1" strike="noStrike">
              <a:solidFill>
                <a:srgbClr val="ffffff"/>
              </a:solidFill>
              <a:latin typeface="Corbel"/>
            </a:endParaRPr>
          </a:p>
        </p:txBody>
      </p:sp>
      <p:sp>
        <p:nvSpPr>
          <p:cNvPr id="562" name=""/>
          <p:cNvSpPr txBox="1"/>
          <p:nvPr/>
        </p:nvSpPr>
        <p:spPr>
          <a:xfrm>
            <a:off x="618840" y="1600200"/>
            <a:ext cx="7878600" cy="2913120"/>
          </a:xfrm>
          <a:prstGeom prst="rect">
            <a:avLst/>
          </a:prstGeom>
          <a:noFill/>
          <a:ln w="0">
            <a:noFill/>
          </a:ln>
        </p:spPr>
        <p:txBody>
          <a:bodyPr anchor="t">
            <a:normAutofit fontScale="90000"/>
          </a:bodyPr>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Indus Valley civilization was in the north-west of india</a:t>
            </a:r>
            <a:endParaRPr b="0" lang="en-US" sz="2200" spc="-1" strike="noStrike">
              <a:solidFill>
                <a:srgbClr val="ffffff"/>
              </a:solidFill>
              <a:latin typeface="Corbel"/>
            </a:endParaRPr>
          </a:p>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It was also next to the Indus river and Himalayas</a:t>
            </a:r>
            <a:endParaRPr b="0" lang="en-US" sz="2200" spc="-1" strike="noStrike">
              <a:solidFill>
                <a:srgbClr val="ffffff"/>
              </a:solidFill>
              <a:latin typeface="Corbel"/>
            </a:endParaRPr>
          </a:p>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absolute location is </a:t>
            </a:r>
            <a:r>
              <a:rPr b="0" lang="en-GB" sz="2200" spc="-1" strike="noStrike">
                <a:solidFill>
                  <a:srgbClr val="ffffff"/>
                </a:solidFill>
                <a:latin typeface="Corbel"/>
              </a:rPr>
              <a:t>28(degrees) 35’N and 77(degrees) 12’E</a:t>
            </a:r>
            <a:endParaRPr b="0" lang="en-US" sz="2200" spc="-1" strike="noStrike">
              <a:solidFill>
                <a:srgbClr val="ffffff"/>
              </a:solidFill>
              <a:latin typeface="Corbel"/>
            </a:endParaRPr>
          </a:p>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Indus valley had the Indus river going thought it. It also had the Himalayas as well as the Arabian sea on the coast  </a:t>
            </a:r>
            <a:endParaRPr b="0" lang="en-US" sz="2200" spc="-1" strike="noStrike">
              <a:solidFill>
                <a:srgbClr val="ffffff"/>
              </a:solidFill>
              <a:latin typeface="Corbel"/>
            </a:endParaRPr>
          </a:p>
        </p:txBody>
      </p:sp>
      <p:pic>
        <p:nvPicPr>
          <p:cNvPr id="563" name="Picture 3" descr=""/>
          <p:cNvPicPr/>
          <p:nvPr/>
        </p:nvPicPr>
        <p:blipFill>
          <a:blip r:embed="rId2"/>
          <a:stretch/>
        </p:blipFill>
        <p:spPr>
          <a:xfrm>
            <a:off x="2743200" y="4140360"/>
            <a:ext cx="2841480" cy="228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9340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ummary of Key Events</a:t>
            </a:r>
            <a:endParaRPr b="0" lang="en-US" sz="4800" spc="-1" strike="noStrike">
              <a:solidFill>
                <a:srgbClr val="ffffff"/>
              </a:solidFill>
              <a:latin typeface="Corbel"/>
            </a:endParaRPr>
          </a:p>
        </p:txBody>
      </p:sp>
      <p:sp>
        <p:nvSpPr>
          <p:cNvPr id="565" name=""/>
          <p:cNvSpPr txBox="1"/>
          <p:nvPr/>
        </p:nvSpPr>
        <p:spPr>
          <a:xfrm>
            <a:off x="457200" y="1417680"/>
            <a:ext cx="8229600" cy="544032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Indian civilization arose in the Indus valley 4,500 years ago</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eople settled throughout the entire subcontinent </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gions included modern countries of India, Pakistan, Bangladesh, Nepal, Bhutan, and Sri Lanka</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Many people made their living through trade. Indian goods included silks, cottons, cashmere, ivory, spices and precious gems that could be found in the far east. </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ryabhata, an Indian mathematician, computed the value of π.</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Art from the Indus Civilization including artifacts still remain today </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practice of yoga still remain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Arts</a:t>
            </a:r>
            <a:endParaRPr b="0" lang="en-US" sz="4800" spc="-1" strike="noStrike">
              <a:solidFill>
                <a:srgbClr val="ffffff"/>
              </a:solidFill>
              <a:latin typeface="Corbel"/>
            </a:endParaRPr>
          </a:p>
        </p:txBody>
      </p:sp>
      <p:sp>
        <p:nvSpPr>
          <p:cNvPr id="567" name=""/>
          <p:cNvSpPr txBox="1"/>
          <p:nvPr/>
        </p:nvSpPr>
        <p:spPr>
          <a:xfrm>
            <a:off x="457200" y="1177920"/>
            <a:ext cx="8229600" cy="5446800"/>
          </a:xfrm>
          <a:prstGeom prst="rect">
            <a:avLst/>
          </a:prstGeom>
          <a:noFill/>
          <a:ln w="0">
            <a:noFill/>
          </a:ln>
        </p:spPr>
        <p:txBody>
          <a:bodyPr anchor="t">
            <a:normAutofit fontScale="82000"/>
          </a:bodyPr>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rts emerged from the Indus Valley during the second half of the 3</a:t>
            </a:r>
            <a:r>
              <a:rPr b="0" lang="en-US" sz="2400" spc="-1" strike="noStrike" baseline="30000">
                <a:solidFill>
                  <a:srgbClr val="ffffff"/>
                </a:solidFill>
                <a:latin typeface="Corbel"/>
              </a:rPr>
              <a:t>rd</a:t>
            </a:r>
            <a:r>
              <a:rPr b="0" lang="en-US" sz="2400" spc="-1" strike="noStrike">
                <a:solidFill>
                  <a:srgbClr val="ffffff"/>
                </a:solidFill>
                <a:latin typeface="Corbel"/>
              </a:rPr>
              <a:t> millennium B.C</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ivic planning was very advanced (examples including the cities of Harappa, destroyed in the 19</a:t>
            </a:r>
            <a:r>
              <a:rPr b="0" lang="en-US" sz="2400" spc="-1" strike="noStrike" baseline="30000">
                <a:solidFill>
                  <a:srgbClr val="ffffff"/>
                </a:solidFill>
                <a:latin typeface="Corbel"/>
              </a:rPr>
              <a:t>th</a:t>
            </a:r>
            <a:r>
              <a:rPr b="0" lang="en-US" sz="2400" spc="-1" strike="noStrike">
                <a:solidFill>
                  <a:srgbClr val="ffffff"/>
                </a:solidFill>
                <a:latin typeface="Corbel"/>
              </a:rPr>
              <a:t> century, and Mohenjo- Daro</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roduced many statuettes made of limestone and steatite </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quare steatite seals resembling animal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eramic storage jars with simple stylized design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oys with wheel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gurines (which may be mother goddesse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ronze weapons, tools, &amp; sculptures </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verall, the Indus Valley civilization was a sophisticated civilization in terms of craftmenship</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Arts Continued</a:t>
            </a:r>
            <a:endParaRPr b="0" lang="en-US" sz="4800" spc="-1" strike="noStrike">
              <a:solidFill>
                <a:srgbClr val="ffffff"/>
              </a:solidFill>
              <a:latin typeface="Corbel"/>
            </a:endParaRPr>
          </a:p>
        </p:txBody>
      </p:sp>
      <p:sp>
        <p:nvSpPr>
          <p:cNvPr id="569"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ural paintings in caves that tell about the artistic style of early Indian painter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istictive styles of Hindu temple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quare building with heavy walls enclosing a statue of a god</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pecific Example</a:t>
            </a:r>
            <a:endParaRPr b="0" lang="en-US" sz="4800" spc="-1" strike="noStrike">
              <a:solidFill>
                <a:srgbClr val="ffffff"/>
              </a:solidFill>
              <a:latin typeface="Corbel"/>
            </a:endParaRPr>
          </a:p>
        </p:txBody>
      </p:sp>
      <p:pic>
        <p:nvPicPr>
          <p:cNvPr id="571" name="Picture 3" descr="464px-Mohenjo-daro_Priesterkönig.jpeg"/>
          <p:cNvPicPr/>
          <p:nvPr/>
        </p:nvPicPr>
        <p:blipFill>
          <a:blip r:embed="rId2"/>
          <a:stretch/>
        </p:blipFill>
        <p:spPr>
          <a:xfrm rot="21370800">
            <a:off x="457200" y="1522080"/>
            <a:ext cx="3267000" cy="4216320"/>
          </a:xfrm>
          <a:prstGeom prst="rect">
            <a:avLst/>
          </a:prstGeom>
          <a:ln w="0">
            <a:noFill/>
          </a:ln>
        </p:spPr>
      </p:pic>
      <p:sp>
        <p:nvSpPr>
          <p:cNvPr id="572" name="TextBox 5"/>
          <p:cNvSpPr/>
          <p:nvPr/>
        </p:nvSpPr>
        <p:spPr>
          <a:xfrm>
            <a:off x="4122720" y="1674720"/>
            <a:ext cx="456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This picture shows a priest/ king statue. Nobody is entirely certain whether it resembles  is a king or a priest. The artifact comes from Mohenjo-Daro and was probably created during the late Harappan period. Today, it is located at the National Museum of Karachi, Pakist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Laws</a:t>
            </a:r>
            <a:endParaRPr b="0" lang="en-US" sz="4800" spc="-1" strike="noStrike">
              <a:solidFill>
                <a:srgbClr val="ffffff"/>
              </a:solidFill>
              <a:latin typeface="Corbel"/>
            </a:endParaRPr>
          </a:p>
        </p:txBody>
      </p:sp>
      <p:sp>
        <p:nvSpPr>
          <p:cNvPr id="574" name=""/>
          <p:cNvSpPr txBox="1"/>
          <p:nvPr/>
        </p:nvSpPr>
        <p:spPr>
          <a:xfrm>
            <a:off x="618840" y="1599840"/>
            <a:ext cx="7878600" cy="4638600"/>
          </a:xfrm>
          <a:prstGeom prst="rect">
            <a:avLst/>
          </a:prstGeom>
          <a:noFill/>
          <a:ln w="0">
            <a:noFill/>
          </a:ln>
        </p:spPr>
        <p:txBody>
          <a:bodyPr anchor="t">
            <a:normAutofit fontScale="83000"/>
          </a:bodyPr>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s were highly disciplined people</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y had a strong understanding of their civic duties</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itizens kept their cities clean</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sidents would make sure that the underground drains were not choked from solid waste from the private baths’ drains</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s cooperated completely when it came to planning the towns and rebuilding public areas such as docks, warehouses, fortification walls, and platforms</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 administration worked to standardize industrial products including metal tools and weapons and even units of length</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Language</a:t>
            </a:r>
            <a:endParaRPr b="0" lang="en-US" sz="4800" spc="-1" strike="noStrike">
              <a:solidFill>
                <a:srgbClr val="ffffff"/>
              </a:solidFill>
              <a:latin typeface="Corbel"/>
            </a:endParaRPr>
          </a:p>
        </p:txBody>
      </p:sp>
      <p:sp>
        <p:nvSpPr>
          <p:cNvPr id="576"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 created a written language but no one has been able to decipher because linguist have not found any inscriptions that are bilingual so no one has fond part of the language transferred into another  language.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3:38:23Z</dcterms:created>
  <dc:creator>IT User</dc:creator>
  <dc:description/>
  <dc:language>en-US</dc:language>
  <cp:lastModifiedBy>IT User</cp:lastModifiedBy>
  <dcterms:modified xsi:type="dcterms:W3CDTF">2010-09-28T13:55:53Z</dcterms:modified>
  <cp:revision>3</cp:revision>
  <dc:subject/>
  <dc:title>Indus Valley Civilizations</dc:title>
</cp:coreProperties>
</file>